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F6E-BF26-461E-BF1A-97A4D7DC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CE8-74B9-4722-A780-0AFC2B3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49-BC1A-4E2A-AAE0-7DC3139C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F3D-34FA-4B8C-A431-3CEDC1FC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C33-228B-4DF9-A79D-0334BFC6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35AB-1B90-439D-AD9D-6021274B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CD43-F970-4C05-95A9-F63BC508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6D52-1EDB-45FD-AC70-3F550E2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4626-10FE-4B41-A5B7-0D00438C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DF96-7BB3-4EC9-8EB5-2E5CD3E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B67E-2BC5-4999-BD41-026675F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E3A-CF54-4797-9227-AAAE51E7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84E9-DB7E-4B51-9F10-BEA2B56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EBA7-230E-4A4B-B4F3-19076E1E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9A2-3479-4727-ACD8-59A691EA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6EA9-0036-4584-8270-806220BE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D2A-BB3C-4009-B727-BDC13002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F8-822A-4293-A7D2-51605B7D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BA3-73ED-40F4-87D4-695050B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F1A-5CFB-4C41-A3F5-0771A10B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BC4-F1CE-4F92-94AE-0F87E51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4E3-0653-4B3B-AF0B-C1165E09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C05-FFF6-4C79-9A73-3664848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92F-9C6D-4BF5-BA1C-4C5F1B0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0F6-8EF8-4ADC-8FE1-CC30E3272F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809-CF9C-4959-8AC9-2BBAC6716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herited Dise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tosomal Recessive and Autosomal Dominant Patterns of Inherit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osomal Recess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caused by a recessive allele b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ly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in ethnic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ystic Fibro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among white Ameri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ximately 1 and 20 white Americans are carri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in 2000 babies are born with 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due to a defective protein in the plasma membrane, it results in the formation &amp; accumulation of thick mucus in the lungs and digestive trac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y-Sach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s the Central Nervous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in the absence of an enzyme that breaks down lipids in the C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in Amish, and Ashkenzic J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bies only live to around the age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in 27 babies are born with the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KU- Phenylketonu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in the absence of enzyme that converts phenylalanine into tryosine. Therefore it accumulates in the body  and results in damage to the C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in Sweden and Norw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 mental retard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trolled by removing foods that contain phenylalanine in their di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osomal Domin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from a dominant allele. Therefore, if the individual has at least 1 allele, the trait will be pres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dominant diseases are r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ntington’s Disea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 in the breakdown of certain areas of the b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h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set is around age 30-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ly pass down allele before they realize they have the tr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Dominant Tra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ngue Ro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sburg lip (large lower l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ging earlo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chhiker’s thum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nd shaped e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ck 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eye lash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ce of hair in middle section of the fin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set eyes (distance between the ey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ir texture (curly is domin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ydactyl- 6 fingers. Rare but domin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4:47:27Z</dcterms:created>
  <dc:creator>pchs</dc:creator>
  <dc:description/>
  <dc:language>en-US</dc:language>
  <cp:lastModifiedBy>Perquimans County Schools</cp:lastModifiedBy>
  <dcterms:modified xsi:type="dcterms:W3CDTF">2005-12-08T16:59:14Z</dcterms:modified>
  <cp:revision>2</cp:revision>
  <dc:subject/>
  <dc:title>Inherited Diseases</dc:title>
</cp:coreProperties>
</file>